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E95-E34B-4270-8C77-38FD2CD0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B02-EEA7-47B8-BBF0-519342E7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B6D-4ABA-4F30-BECA-FBC045F2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5BB-B9CE-407A-A728-354DAD4E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3D37-0AD4-404F-B882-29CFB74A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9CB0-754A-4192-9954-A6A12A07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DA2D-A093-4A52-BC3B-8A05305D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B653-6255-4DF5-A295-5012F99C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3D95-A7F1-4266-B682-D39B9298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3A7E-40CB-4280-8BB5-B0EB69A4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12B2-28AC-4D4E-A6BE-5BA7F486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CA6-2CC5-49F0-8CB9-7A3D8874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E8D7-A8FA-477F-BCE1-296382FB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D626-DBB8-4496-8B65-49A3F0BC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B048-AE3B-4F11-80B7-FAFF1EE7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AC8-94D0-4E1A-AB89-618EF282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6523-142D-455B-BF36-47CBB2DE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8DA-73CE-47F1-8583-07B32EB6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08F-503E-45CD-B5A2-27B75FFA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3BA-D134-4F93-AB61-75961315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827-7C52-4BE4-8F1F-C404C186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71A-01E9-48A6-A191-FB098A33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CDF-DC21-48FF-BC54-32305707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5F6-11EB-4661-AC7F-5A5D9B62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304920"/>
            <a:ext cx="8458200" cy="6400800"/>
          </a:xfrm>
          <a:prstGeom prst="rect">
            <a:avLst/>
          </a:prstGeom>
          <a:solidFill>
            <a:srgbClr val="00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9A95-84B7-45A8-818E-F879EE8DDC9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B85A-E2B5-47CB-B3B1-6681ADB421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solidFill>
            <a:srgbClr val="00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D177-E382-4FC5-A01B-4FBACF0FA4A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8664-A195-4D33-9909-35BB019E0A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ARBOHYDRATE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HAOS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ology 122 – Carb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lecular shape of sugar in water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ng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process used to form a disaccharide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hydration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ild a lactose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 + galact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 dehydration synthesis you (add/remove) water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ing water to a disaccharide to help break it down into monosaccharides is called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dro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ny monomers of sugars are called…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 examples of polysaccharides are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ch, cellulose, glycogen, chi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ild a fructose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 + su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do plant cells store for their energy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imals store excess sugar as…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yc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are the 3 elements in ALL carbohydrate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bon, Hydrogen,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ere can we store glycogen (2 places)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and 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dietary form of cellulose is called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a Maltose (including the bond!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 – glycosidic bond -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gars “love” water:  polar/soluble, therefore we say that they are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drophi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n alpha-glucose molecule, how are the hydrogen and hydroxyl group of carbon 1 attached?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hydration Synthesis is also known as a ____________ reaction as water is removed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en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 oligosaccharide has how many carbon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wo monosaccharides form a…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accha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e way to identify a sugar is that most have the ending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 Simple Sugars are…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, Fructose, Galact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emical Formula for Glucose is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hemical Formula for a “triose” sugar would be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r BLOOD SUGAR is what sugar…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fferent structures, but the same formula is called an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0:08:14Z</dcterms:created>
  <dc:creator>lisa.holyokewalsh</dc:creator>
  <dc:description/>
  <dc:language>en-US</dc:language>
  <cp:lastModifiedBy>nbdoe</cp:lastModifiedBy>
  <dcterms:modified xsi:type="dcterms:W3CDTF">2007-02-28T18:22:27Z</dcterms:modified>
  <cp:revision>4</cp:revision>
  <dc:subject/>
  <dc:title>CARBOHYDRATE CHAOS</dc:title>
</cp:coreProperties>
</file>